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3.wmf" ContentType="image/x-wmf"/>
  <Override PartName="/ppt/media/image8.jpeg" ContentType="image/jpe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7AA177D-0C4F-4BA8-92AB-19B7D8F3D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andout is for the participants for their personal use.  We mentio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handouts deal with formative assessment for teachers of individual work.  We do not discus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use BLM 4.2.2  Observation Record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lso just a handout for teacher use in thei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lso a handout for teachers for thei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for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p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and scale of axes (numbering months vs. naming them, where to put January, degrees as the dependent variable in a trig gra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vs. discret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ll periodic graphs sinusoid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averag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curricular links to explain observed results (effect of latitude, elevation, coastal c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5 minutes – do you think this is enough?  Also, rather than have them write all the BI and expectations, lets have them code it someway to make it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3FA01-70E6-411E-9515-E39815C60D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 –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AEA4A-09AD-4BA5-9450-4E49A5ED7B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68E-35A4-4D7C-BAEA-E48BE449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C06-70D8-4F89-9BB9-2AA218DD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DD9-BD44-4620-8AB1-39FF1088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21F-C870-4806-AB96-652880C6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A78B-BC03-41E7-BC4F-A2C4A801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3862-B626-4801-B6C8-49B28858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901F-22DB-46C6-9361-9E6372FB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E747-8734-49F9-9693-A41CAC6E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2925-F613-4A33-B81A-B2F2110D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E634-9C0A-42A4-8BB4-1BE911F1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5502-6FA9-46F6-B2D2-C6D93E15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6CA-B4E2-4B75-8005-C9137578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76DF-A8CA-43CD-BAAC-872E1119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6DCC-75DC-493E-9E4F-6BCD56E0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0279-528A-414D-8C3B-B690E75B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8072-E556-4DC7-A828-B56DE71C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453C-9D98-42BE-9987-1E3CA1CE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AA9-FAB2-4808-8DFC-25AB9421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E98-2F63-492D-88C1-316796B5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E6D8-3616-46D7-A7C8-DEE2DB0E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03A-CF4C-4196-97EF-8DC4550D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9CA1-F976-44BE-8CAC-E6E1E314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134-5AD7-4477-BA9B-E06014EA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097C-EB3C-420E-84D2-B16D8EF4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1998-FABD-41B9-91E9-2120179A035D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81D6-D4A9-4467-8E0C-A3FB36A5102B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0E95-42A7-48B3-AFBC-51B7D299C33C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00296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d469b"/>
                </a:solidFill>
                <a:latin typeface="Arial"/>
              </a:rPr>
              <a:t>Quadratic and Trigonometric Relations</a:t>
            </a: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0d469b"/>
                </a:solidFill>
                <a:latin typeface="Arial"/>
              </a:rPr>
              <a:t>Sessions 6 and 7</a:t>
            </a:r>
            <a:br>
              <a:rPr sz="3600"/>
            </a:b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68400" y="440496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b78c"/>
                </a:solidFill>
                <a:latin typeface="Arial"/>
              </a:rPr>
              <a:t>Summ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b78c"/>
                </a:solidFill>
                <a:latin typeface="Arial"/>
              </a:rPr>
              <a:t>Augus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John Rod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Think-Pair-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big idea does this activity elic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Share:  Question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es the scaffolding in BLM 4.1 support students in engaging in higher-ordered thinking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y bother doing this type of activity anyway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Action:  World Climate Task – Individual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unique city in the world.  Mark your city on the globe using plast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ww.worldclimate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retrieve the 24-hour average temperature for the city you se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materials provided, describe and analyze the periodic relationship.  Record your representation(s) and analysis on chart paper for sh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9640" y="6165720"/>
            <a:ext cx="25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limate Task – Assessm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riteria: Individual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25400" y="2214720"/>
            <a:ext cx="76946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World Climate Task – Observation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560" y="2395440"/>
            <a:ext cx="794232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Action:  World Climate Task – Pairs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, compare and contrast your two periodic relationships.  Identify the similarities and differences, and explain why these ex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limate Task – Assessm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riteria:  Pairs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93720" y="2352600"/>
            <a:ext cx="76946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rld Climate Task – Observation</a:t>
            </a:r>
            <a:endParaRPr b="0" lang="en-US" sz="3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5440" y="2467080"/>
            <a:ext cx="79549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Action:  World Climate Task – Poster Wall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your graph and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lery walk with your partner; compare and contrast your graphs with those of your colleag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World Climate Tas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olidation:  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if the city was located in ________ part of the world, what would the graph look like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ould be the minimum amount of information that you would need to sketch a trigonometric model for a city in the world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Learning Goals: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Practice posing parallel and ope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Explore real world phenomenon that is periodic in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Deepen understanding of the Big Ideas, lesson goals and student stru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World Climate Tas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dditional questions might you p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ecisions might you make to support students who are strugg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e: Pai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a possible learning goal that aligns with this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256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TIME FOR A BREAK – TAKE 15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48360" y="357336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Pai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oster wall partner, create a different learning goal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rld Climate 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ssible student misconceptions and strategies for reme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 different expec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 different Big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Change it up -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dditions/changes would you make to the activity to support the achievement of this new learning go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Group 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Consolidation:  How do you know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ne or more open consolidation questions that will tell you what the student kn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Mathematic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Goal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Mathematic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ased on the Summer Institute, reflect on the following questions focusing on the prompts that are most meaningful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iven what I have learned today, what ideas are challenging my belief about teaching trigonometric functions?  Wh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new learning do I believe has helped me shift my practic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new ideas that I am prepared to implement upon my return to the classroom / board are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281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d469b"/>
                </a:solidFill>
                <a:latin typeface="Arial"/>
              </a:rPr>
              <a:t>Thank you!</a:t>
            </a:r>
            <a:br>
              <a:rPr sz="8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lease visit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for all files from the Summer Institute!</a:t>
            </a:r>
            <a:br>
              <a:rPr sz="3600"/>
            </a:br>
            <a:br>
              <a:rPr sz="1200"/>
            </a:b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0240" y="2841480"/>
            <a:ext cx="5940360" cy="1876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279520" y="3328920"/>
            <a:ext cx="6670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ff"/>
                </a:solidFill>
                <a:latin typeface="Times New Roman"/>
              </a:rPr>
              <a:t>http://gains-camppp.wikispaces.com/SUMMER+IN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Create a Parallel Task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844640"/>
            <a:ext cx="7777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773360"/>
            <a:ext cx="8748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  <a:ea typeface="Arial"/>
              </a:rPr>
              <a:t>Select a big idea and an overall expectation from either a quadratic relations strand or a trig. functions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  <a:ea typeface="Arial"/>
              </a:rPr>
              <a:t>Consider the potential struggles that students might encounter with this big idea or expect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Verdana"/>
                <a:ea typeface="Arial"/>
              </a:rPr>
              <a:t>Create a lesson goal and an appropriate parallel task that addresses that expec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490d8"/>
                </a:solidFill>
                <a:latin typeface="Arial"/>
              </a:rPr>
              <a:t>Consolidate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– Revisiting l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Join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Exchange parallel tasks for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rite suggestions on stick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Consolidate / Debrief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52894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33399"/>
                </a:solidFill>
                <a:latin typeface="Verdana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86540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lass of function do you think this graph repres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15960" y="3753000"/>
            <a:ext cx="14716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8640" y="3249720"/>
            <a:ext cx="23860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3280" y="3392640"/>
            <a:ext cx="31719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3281400"/>
            <a:ext cx="509112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eel District School Board</cp:lastModifiedBy>
  <dcterms:modified xsi:type="dcterms:W3CDTF">2009-08-27T11:58:34Z</dcterms:modified>
  <cp:revision>126</cp:revision>
  <dc:subject/>
  <dc:title>Math GAINS 2008-09</dc:title>
</cp:coreProperties>
</file>